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53217C-3A8B-4C92-97FF-A691DDA30C3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re are some center effects as within center correlation are higher than for all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nter 3 has lower correlation on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Within population have higher correlation than for all samples (except C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A33ADC-F616-467E-97D0-2F6271C484A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orrelation between duplicate samples are higher that between different samples =&gt;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ference large enough? (0.950 vs 0.9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correlation distribution is narrower (Std approximately half) =&gt;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No center or population out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F31E25-BBDA-4379-A3E3-86A19127B5F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0431-534A-4D45-9FAF-5A6D7447B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E643-88FD-4AFA-AA21-D4294139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AC73-9E95-46AE-9E80-CE000AB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8B0C-7D14-47B8-A275-24A2A895A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3B6D-1345-4D09-A95A-05CDD40D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6E03-A456-485A-85C9-6CDE6DA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F57D-AF71-49D6-9396-2388CA40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744D-98CE-4A6A-9620-0DE8F73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70E8-F123-4D97-AD1F-18440309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61C8-1B4D-4FC1-891A-D15CB46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DBD5-A5DE-432B-A1DB-FFA7D21B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7CA3-0A11-422D-BD5D-4329E9B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12-07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B2BB52-11B6-446C-B7A8-E85D13DDA6BD}" type="slidenum">
              <a:rPr b="0" lang="sv-S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Uppsal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Work done by Jonas Almlö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898989"/>
                </a:solidFill>
                <a:latin typeface="Calibri"/>
              </a:rPr>
              <a:t>Presented by Olof Karl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1D49BC-2113-444A-9630-1B506C6456C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psala outl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rom a single lane, should be 8 samples per l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e 3 was underclustered with an uneven pool (5-2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ree samples above were kept, while the others were reseque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the low density, the Q-scores are higher than on the other la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C0AE29-E5AA-47A0-BF56-A58C600CC24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Variable outliers (B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High read duplication % (Avg: 27.9%, Std: 4.0%)</a:t>
            </a:r>
            <a:r>
              <a:rPr b="1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HG00099.5.M_120131_3 (51%), HG00329.5.M_120131_3 (48%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High % unmapped reads (Avg: 13.0%, Std: 1.7%)</a:t>
            </a:r>
            <a:r>
              <a:rPr b="1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A12889.3.M_120223_7 (26%, PC2), HG00329.5.M_120131_3 (24%, high dupl %), </a:t>
            </a:r>
            <a:r>
              <a:rPr b="1" lang="sv-SE" sz="1700" spc="-1" strike="noStrike">
                <a:solidFill>
                  <a:srgbClr val="000000"/>
                </a:solidFill>
                <a:latin typeface="Calibri"/>
              </a:rPr>
              <a:t>HG00345.1.M_120209_1 (23%, new)</a:t>
            </a: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, HG00099.5.M_120131_3 (23%, high dupl %), NA19153.1.M_111124_7 (22%, PC3,4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Large difference in number of mapped reads from read one and two in the paired end read (Avg: 99.7%, Std: 0.7%)</a:t>
            </a:r>
            <a:br>
              <a:rPr sz="3000"/>
            </a:br>
            <a:r>
              <a:rPr b="0" lang="sv-SE" sz="1700" spc="-1" strike="noStrike">
                <a:solidFill>
                  <a:srgbClr val="000000"/>
                </a:solidFill>
                <a:latin typeface="Calibri"/>
              </a:rPr>
              <a:t>NA20805.4.M_120208_7 (r1 / r2 = 0.9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F8560B-CF15-4980-90F2-5B5FF60A0D7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Variable outlier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6480" y="118908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57520" y="1935000"/>
            <a:ext cx="4078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65520" y="1189080"/>
            <a:ext cx="4584960" cy="275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65520" y="4108320"/>
            <a:ext cx="4584960" cy="2756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8000" y="6093000"/>
            <a:ext cx="4093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7445520" y="1844640"/>
            <a:ext cx="4078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914840" y="42210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re these outli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"/>
          <p:cNvCxnSpPr>
            <a:stCxn id="123" idx="1"/>
          </p:cNvCxnSpPr>
          <p:nvPr/>
        </p:nvCxnSpPr>
        <p:spPr>
          <a:xfrm flipH="1" flipV="1">
            <a:off x="537840" y="3499920"/>
            <a:ext cx="1380240" cy="90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3" idx="3"/>
          </p:cNvCxnSpPr>
          <p:nvPr/>
        </p:nvCxnSpPr>
        <p:spPr>
          <a:xfrm flipV="1">
            <a:off x="3846240" y="3644640"/>
            <a:ext cx="943560" cy="76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154B98-CCAB-4CEB-8A3F-55BC0C36886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pression 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e expression in genes and exons between all samples using spearman rank correlation in different set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ll against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s and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Find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7BE053-1CE6-4606-8250-A3ADBBB3FBD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4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on 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3360" y="901800"/>
            <a:ext cx="8545320" cy="4540320"/>
            <a:chOff x="603360" y="901800"/>
            <a:chExt cx="8545320" cy="45403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03360" y="901800"/>
              <a:ext cx="85453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03360" y="901800"/>
              <a:ext cx="8545320" cy="45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258920" y="544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Outliers with low average correlation rem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enters and populations differ significantly from All samples (except T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480" y="1700280"/>
            <a:ext cx="89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2D23A-E509-41DA-984C-09DC7003301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708280"/>
            <a:ext cx="8172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Expression correlation – low coverage sam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s between duplicate samples (low and high coverage of the same sample) to find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s between duplicate samples should be higher than between different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FE76DC-CCE8-4F0E-8D68-884BDB4D04C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Exon correlation: </a:t>
            </a:r>
            <a:br>
              <a:rPr sz="4000"/>
            </a:b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parison between different samples and duplicate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0720" y="1596960"/>
            <a:ext cx="8240760" cy="4533840"/>
            <a:chOff x="450720" y="1596960"/>
            <a:chExt cx="8240760" cy="45338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07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0720" y="1596960"/>
              <a:ext cx="8240760" cy="45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782720" y="6237360"/>
            <a:ext cx="43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All within sample correlations are hig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0E714-E9EA-49DD-9D32-9A0E7A27ED4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4428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Exon correlation outliers / exclu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1052640"/>
          <a:ext cx="8351640" cy="5668920"/>
        </p:xfrm>
        <a:graphic>
          <a:graphicData uri="http://schemas.openxmlformats.org/drawingml/2006/table">
            <a:tbl>
              <a:tblPr/>
              <a:tblGrid>
                <a:gridCol w="2614680"/>
                <a:gridCol w="2106360"/>
                <a:gridCol w="363060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age corre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: 0.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144.4.M_120208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2058.5.M_120131_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931.1.M_111124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G00102.3.M_120202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930.3.M_120202_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 as Tuuli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1892.1.M_111124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247.3.M_120223_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ulis outlier (next in line, depends on where you draw the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9225.6.M_120119_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2399.7.M_120219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07000.1.M_120209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18861.4.M_120208_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G00237.4.M_120208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ded due to contamination (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C30A1-BB58-4F39-A4BC-856560C7020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/Exon correlation (BWA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144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 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 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pping profile b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-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-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. librar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uplicates &gt;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body coverag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-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-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body coverag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 - -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 - -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GC in max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plained by top 50/100 15 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 - -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 - 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 of top corre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0CB9E-F0FD-4DA8-83F6-F33957D382D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To do /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Dubble check QC on GEM-aligned files (Data collection finished, but not analyz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pply ”objective” outlier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tinuous sco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not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Make more use of the low complexity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91DFF4-F319-4FA3-998E-6D2B5026835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rincipal component analysis (PCA) of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nalysis of individual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Expression correlation between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Expression correlation towards QC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B2091E-DC20-4014-92C4-9CF6A05E548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92B2F-EFBC-4586-8672-AC046984A26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Variable / exon correlation (B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Clipping profile bins (0.13-0.17 after normalization =&gt; 0.08-0.1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Estimated library size (0.14 =&gt; 0.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duplicates &gt; 10 (-0.12 =&gt; -0.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Gene body coverage 40-50% (0.09-0.13 =&gt; 0.10-0.1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Gene body coverage 80-100% (-0.11--0.15 =&gt; -0.08--0.1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GC in max content (0.15 =&gt; 0.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% explained by top 50/100 15 mers (-0.11--0.13 =&gt; </a:t>
            </a:r>
            <a:br>
              <a:rPr sz="2700"/>
            </a:b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-0.10--0.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Calibri"/>
              </a:rPr>
              <a:t>Sum of top correlations (absolute value) 2.65 =&gt; 2.2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1718B-9199-4626-BC4E-2B45FB3943E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ere are some center effects as within center correlation are higher than for al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enter 3 has lower correlation on a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ithin population have higher correlation than for all samples (except CE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865E1C-84FF-4DD9-97B9-5BB9B5AE38C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Correlation between duplicate samples are higher that between different samples =&gt; good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Difference large enough? (0.950 vs 0.96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e correlation distribution is narrower (Std approximately half) =&gt;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No center or population out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879F6B-6CC8-460A-8AA7-B8D10DF2DE1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-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FastQ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I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SeQC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(Wang et al. Bioinformatics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Home made scri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DA908-1767-484A-BCE9-60BD711F05D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-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71360" y="1219320"/>
            <a:ext cx="8831520" cy="5240160"/>
            <a:chOff x="171360" y="1219320"/>
            <a:chExt cx="8831520" cy="52401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71360" y="1219320"/>
              <a:ext cx="8831520" cy="52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71360" y="1219320"/>
              <a:ext cx="8831520" cy="52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CEE80D-6AD1-46A2-BC98-3EAAC1AA442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QC – outlier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A: Find outliers in the first 4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Outlier per variable: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Initial filter 3 stdev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d hoc filter by importance and effe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8D04D-A6B8-48EC-B15C-059D9A69564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3557520"/>
            <a:ext cx="7777440" cy="2890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1 – % GC, % nucleotide content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18861.4.M_120208_5, HG00102.3.M_120202_8, NA19247.3.M_120223_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2 – Quality</a:t>
            </a:r>
            <a:br>
              <a:rPr sz="3200"/>
            </a:b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39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13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7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80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89.3.M_120223_7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74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3 – Clipping profile, % gene body coverage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20802.1.M_111124_7, NA19153.1.M_111124_7, NA12716.7.M_120219_6, NA18502.7.M_120219_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4 – N content</a:t>
            </a:r>
            <a:br>
              <a:rPr sz="32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A20773.6.M_120119_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QC – principal components and outliers (BW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3548" t="37423" r="51020" b="31960"/>
          <a:stretch/>
        </p:blipFill>
        <p:spPr>
          <a:xfrm>
            <a:off x="7020000" y="4797360"/>
            <a:ext cx="212400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70743" r="78737" b="254"/>
          <a:stretch/>
        </p:blipFill>
        <p:spPr>
          <a:xfrm>
            <a:off x="5148360" y="4764240"/>
            <a:ext cx="1871640" cy="180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29880" y="6519960"/>
            <a:ext cx="36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Clipping profile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Gene body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A0395-6904-4D45-B225-58BE0716145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3594240"/>
            <a:ext cx="7777440" cy="2887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1 – % GC, % nucleotide content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18861.4.M_120208_5, HG00102.3.M_120202_8, NA19247.3.M_120223_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2 – Quality</a:t>
            </a:r>
            <a:br>
              <a:rPr sz="3200"/>
            </a:b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39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139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7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803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12889.3.M_120223_7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74.7.M_120219_1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6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G00263.6.M_120119_3</a:t>
            </a: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20787.6.M_120119_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3 – Clipping profile, % gene body coverage</a:t>
            </a:r>
            <a:br>
              <a:rPr sz="3200"/>
            </a:br>
            <a:r>
              <a:rPr b="0" lang="sv-SE" sz="1900" spc="-1" strike="noStrike">
                <a:solidFill>
                  <a:srgbClr val="000000"/>
                </a:solidFill>
                <a:latin typeface="Calibri"/>
              </a:rPr>
              <a:t>NA20802.1.M_111124_7, NA19153.1.M_111124_7, NA12716.7.M_120219_6, NA18502.7.M_120219_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C4 – N content</a:t>
            </a:r>
            <a:br>
              <a:rPr sz="32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NA20773.6.M_120119_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QC – principal components and outliers (BW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3548" t="37423" r="51020" b="31960"/>
          <a:stretch/>
        </p:blipFill>
        <p:spPr>
          <a:xfrm>
            <a:off x="7020000" y="4797360"/>
            <a:ext cx="2124000" cy="1806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70743" r="78737" b="254"/>
          <a:stretch/>
        </p:blipFill>
        <p:spPr>
          <a:xfrm>
            <a:off x="5148360" y="4764240"/>
            <a:ext cx="1871640" cy="180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29880" y="6519960"/>
            <a:ext cx="36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Clipping profile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Gene body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6CFFE-986C-4874-8201-0B244019F09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PC 1 and 2 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(%GC and qu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95320" y="901800"/>
            <a:ext cx="7278840" cy="267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63720" y="3638520"/>
            <a:ext cx="7358040" cy="322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836640"/>
            <a:ext cx="649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4581360"/>
            <a:ext cx="64764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91240" y="1009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83600" y="4149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otential 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"/>
          <p:cNvCxnSpPr>
            <a:stCxn id="90" idx="2"/>
            <a:endCxn id="92" idx="3"/>
          </p:cNvCxnSpPr>
          <p:nvPr/>
        </p:nvCxnSpPr>
        <p:spPr>
          <a:xfrm flipH="1" flipV="1">
            <a:off x="1117080" y="1193040"/>
            <a:ext cx="50256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0"/>
            <a:endCxn id="93" idx="3"/>
          </p:cNvCxnSpPr>
          <p:nvPr/>
        </p:nvCxnSpPr>
        <p:spPr>
          <a:xfrm flipH="1" flipV="1">
            <a:off x="1952280" y="4333320"/>
            <a:ext cx="349920" cy="248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673040" y="5084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6" idx="0"/>
          </p:cNvCxnSpPr>
          <p:nvPr/>
        </p:nvCxnSpPr>
        <p:spPr>
          <a:xfrm>
            <a:off x="7812000" y="4508640"/>
            <a:ext cx="31788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6" idx="2"/>
          </p:cNvCxnSpPr>
          <p:nvPr/>
        </p:nvCxnSpPr>
        <p:spPr>
          <a:xfrm flipV="1">
            <a:off x="6012000" y="5452560"/>
            <a:ext cx="2118240" cy="929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621DF9-E62A-4385-B4EF-183B472E54F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PC 3 and 4</a:t>
            </a:r>
            <a:br>
              <a:rPr sz="4000"/>
            </a:b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(Clipping profile / gene body coverage and N cont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95320" y="1620720"/>
            <a:ext cx="7505640" cy="4475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19640" y="2133720"/>
            <a:ext cx="1081080" cy="19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005360"/>
            <a:ext cx="5184720" cy="172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664680" y="35733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Outl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12-07-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73A436-9793-4EEC-862C-5D17485E94B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2:26:51Z</dcterms:created>
  <dc:creator>Jonas Carlsson</dc:creator>
  <dc:description/>
  <dc:language>en-US</dc:language>
  <cp:lastModifiedBy>Olof</cp:lastModifiedBy>
  <dcterms:modified xsi:type="dcterms:W3CDTF">2012-07-08T19:58:37Z</dcterms:modified>
  <cp:revision>247</cp:revision>
  <dc:subject/>
  <dc:title>QC analysis</dc:title>
</cp:coreProperties>
</file>